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BE7-298D-471A-A61D-F37268AC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466-6501-49BC-ADF8-057E04BC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B34-3C4B-4173-8E0A-FC6E442B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3B3-89C0-407A-AB05-6F25D487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BF29-4553-49F7-A5D4-1D287CE6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CCE6-4D14-4AE9-8925-8A0A1A07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D4FD-E902-4596-B2B1-03B628B1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917-AFA0-4D8F-A91F-CBA1E19D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7417-60DF-4482-AA15-35E10610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FD8-CB32-4262-AA9E-91CCBC41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5D91-618E-46F4-B1FA-68C9571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D1A-0E35-4DC6-B5A8-4FC394D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A6B-EF51-4796-BE20-CF67CCE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A48-C436-4118-AA16-DD6EA508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A55-2AE2-4D5D-8C74-6A3F6912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CD4B-59A3-4E0A-89F1-2095D81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150F-CE0A-454A-B9C4-02ED2A3C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C0E-62D3-41C1-BF64-AD5A9131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132-8996-4A9F-BEA7-9BEF87DF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EA3-7184-425D-A062-CD9FACA0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FCF-46CC-4C7E-BB27-3E64DB92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98D-86CD-4BB4-8F2F-F6FCF7E1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F9D-A88D-4636-85DC-FA3DA087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BE1-EDC8-44A2-8699-3BD05511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F282-BE72-4510-B9A8-C29C08E0A1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6FE9-7F79-4D95-9D3D-F6174E4452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ere do you see yourself in 6 months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am T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n should work in Technology/Tele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514600"/>
          <a:ext cx="7467480" cy="41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4674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Meli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522520"/>
            <a:ext cx="6477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lissa should work in Media/Entertai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821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go get your job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89200" y="2900520"/>
            <a:ext cx="4473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uation May 14th - what do we d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p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ary $$$$$ - money is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ing Bonus - money up front is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 hours per wee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 Time - you need 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cation D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CLA - got to avoid UCLA gradu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graphy - stay away from the midd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ran needs a recording contr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l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2414520"/>
            <a:ext cx="7467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Mik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5788080" cy="2648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447920" y="4792680"/>
            <a:ext cx="5562360" cy="1989000"/>
            <a:chOff x="1447920" y="4792680"/>
            <a:chExt cx="5562360" cy="19890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447920" y="4792680"/>
              <a:ext cx="556236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191120" y="4792680"/>
              <a:ext cx="2819160" cy="115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“…</a:t>
              </a: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n acoustic guitar with a full-bodied sound in a highly portable package, is nearly indestructible not to mention super light and easy to play.”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ke should work in Technology/Tele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Z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6294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in should work in Manufacturing/Energy (he believes the model is flaw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36760" y="2362320"/>
            <a:ext cx="6495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J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5943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16:31Z</dcterms:created>
  <dc:creator>Zain Reshad Saeed</dc:creator>
  <dc:description/>
  <dc:language>en-US</dc:language>
  <cp:lastModifiedBy>Michael Altschul</cp:lastModifiedBy>
  <dcterms:modified xsi:type="dcterms:W3CDTF">2007-12-01T16:21:47Z</dcterms:modified>
  <cp:revision>6</cp:revision>
  <dc:subject/>
  <dc:title>Slide 1</dc:title>
</cp:coreProperties>
</file>